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8CA6-9DF4-4DD1-AB7D-8C68EF5D19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F462-88E8-430A-83CA-6B13608590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775F-16B6-4A94-ADCF-49F7423AB6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6F0-68A6-4605-8664-5140123D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19F-2BE1-42A2-9607-1613E175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58A-C8C7-4245-9A72-B8A9DF71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4E1-F784-4DB1-8C2E-5B9F42E1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96C-16BF-48A2-BAC5-8DD732DF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110-E1E1-4EA2-88AE-54677E2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F4F-F6A4-4788-8598-1759D97A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3F4-ED6E-45EB-947F-FD7295C1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19A-D15A-4563-B456-801E7EEC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E4A-736B-4C24-A10D-8D2FDBB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1FD-D0FB-4E41-BF49-67B1B6A5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C6D-0729-4E78-9A9F-CD40D79C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38C9-FE91-4318-B932-CD778B403F2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M.Pahomova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E.M.Pahomova@gmail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53520" cy="12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роприятия 2-о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Найдите слова-синон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флекс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содержания, использованных технологий и достигнутых результатов поставленным це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замысла и реально развернувшейся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точность анализа учебного занятия и рефлексии свое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3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ическое объедин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есед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регламент до 20 мину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Формат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суждение с учащимися актуального для них вопроса в режиме импров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возможных вопросов для обсуждения , возрастной и количественный состав группы учащихся определяются участниками финала конкурса на установочном семина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кретный вопрос для обсуждения  выбирают учащиеся на основе списка возможных вопросов непосредственно перед началом и представитель учащихся называет вопрос, выбранный груп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убина и воспитательная ценность организованного обсужд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оздавать и поддерживать атмосферу взаимоуважения и толерантност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организовывать взаимодействие учащихся между собо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лушать, слышать и понимать позиции учащихся, адекватно и педагогически целесообразно реагировать на них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включить каждого учащегося в обсуждение и формирование выв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азговор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ыявить и сформулировать педагогическую пробл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найти и предложить пути реш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заимодействовать с коллегами и родителя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в принятии коллективного реш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Мероприятия 3-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5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ученического, педагогического, родительского сообществ и общественности, отражающего значение преподаваемого предмета для формирования мировоззрения и общекультурных компетен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17680" y="176040"/>
            <a:ext cx="841824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5880" y="1844280"/>
            <a:ext cx="7858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«Методическое объединение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представление  педагогического  опыт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(по  идее конкурса  -  инновационног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гламент до 12 минут, включая вопрос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   выявлять и применять инновационные идеи в своей 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7505640" cy="117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Гузалия Гилязовна Ибатуллина</cp:lastModifiedBy>
  <dcterms:modified xsi:type="dcterms:W3CDTF">2012-12-18T11:54:58Z</dcterms:modified>
  <cp:revision>35</cp:revision>
  <dc:subject/>
  <dc:title>Представление опыта</dc:title>
</cp:coreProperties>
</file>